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C31-B820-4A09-B475-1E5D74C1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AB0-DFD2-47D3-837F-CC57FCB0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2FB-DABB-4C35-A3B8-90D15D29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9E2-0133-4A78-81EC-D153D3F9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2E7-BD3D-43EF-987C-F3016C37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71B-A7D3-4A7C-A649-3500CBBC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F5D-ED78-4B90-91BC-6A50D7DC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83B-E454-4F2B-8086-252AD8EF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E4A-A8CE-4E60-B0E0-F7C614EF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DAF-296C-451C-9515-F3BA4D4E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AC5-73F0-41FF-A5FF-689A6E2D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41B-3ADB-4C45-8B53-F558375A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b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FDE3-DBA9-495F-BB8F-19AA36E45722}" type="slidenum">
              <a:rPr b="0" lang="en-GB" sz="1400" spc="-1" strike="noStrike">
                <a:solidFill>
                  <a:srgbClr val="3e4b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8408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ME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gaton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M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ass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PHYS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ics Project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e4bff"/>
                </a:solidFill>
                <a:latin typeface="Comic Sans MS"/>
              </a:rPr>
              <a:t>Physics Motivation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The Installation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a Very Large Laborator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a MegaTon scale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the Neutrino Beam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Expected physics potentia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Tentative schedule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ABD-F8C0-4A85-B8C9-4ECD7B27579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possible schedule for a European Lab. at Frejus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1219320"/>
            <a:ext cx="9144000" cy="4321080"/>
            <a:chOff x="0" y="1219320"/>
            <a:chExt cx="9144000" cy="4321080"/>
          </a:xfrm>
        </p:grpSpPr>
        <p:sp>
          <p:nvSpPr>
            <p:cNvPr id="125" name=""/>
            <p:cNvSpPr/>
            <p:nvPr/>
          </p:nvSpPr>
          <p:spPr>
            <a:xfrm>
              <a:off x="0" y="1219320"/>
              <a:ext cx="9144000" cy="4321080"/>
            </a:xfrm>
            <a:prstGeom prst="rect">
              <a:avLst/>
            </a:prstGeom>
            <a:solidFill>
              <a:srgbClr val="ffe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80" y="1423440"/>
              <a:ext cx="813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Year       2005                      </a:t>
              </a: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2010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                       2015                       2020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96056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afety tunnel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35280" y="1960560"/>
              <a:ext cx="1368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8000" y="1960560"/>
              <a:ext cx="136872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243396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Lab cavit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2360" y="2433960"/>
              <a:ext cx="2592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3280" y="2433960"/>
              <a:ext cx="576360" cy="307080"/>
            </a:xfrm>
            <a:prstGeom prst="rect">
              <a:avLst/>
            </a:prstGeom>
            <a:solidFill>
              <a:srgbClr val="713e3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e585"/>
                  </a:solidFill>
                  <a:latin typeface="Arial"/>
                </a:rPr>
                <a:t>P.S</a:t>
              </a:r>
              <a:endParaRPr b="0" lang="en-US" sz="1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9640" y="2433960"/>
              <a:ext cx="129708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tud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90592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5280" y="2905920"/>
              <a:ext cx="143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 R&amp;D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92360" y="2905920"/>
              <a:ext cx="2808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T prod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45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.prepar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64000" y="3380400"/>
              <a:ext cx="2016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Install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360" y="3380400"/>
              <a:ext cx="1871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Outside lab.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398628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Non-acc.physics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00720" y="3919320"/>
              <a:ext cx="284328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P-decay, S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0920" y="452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80000" y="452664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59640" y="452664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4000" y="4999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beta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59640" y="499968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Beta 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35280" y="33804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64000" y="2433960"/>
              <a:ext cx="0" cy="337680"/>
            </a:xfrm>
            <a:prstGeom prst="line">
              <a:avLst/>
            </a:prstGeom>
            <a:ln w="93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0000" y="499968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8000" y="1826640"/>
              <a:ext cx="0" cy="3713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352680" y="5715000"/>
            <a:ext cx="3384720" cy="916920"/>
          </a:xfrm>
          <a:prstGeom prst="rect">
            <a:avLst/>
          </a:prstGeom>
          <a:solidFill>
            <a:srgbClr val="ffe58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635-88F3-4D6E-B9FD-235427DE24A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Specific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requests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 from the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MEMPHYS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Group</a:t>
            </a:r>
            <a:br>
              <a:rPr sz="2400"/>
            </a:b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to the European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FP7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Network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828800"/>
            <a:ext cx="6400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Networking activities</a:t>
            </a:r>
            <a:r>
              <a:rPr b="0" lang="en-US" sz="2400" spc="-1" strike="noStrike">
                <a:solidFill>
                  <a:srgbClr val="3e4bff"/>
                </a:solidFill>
                <a:latin typeface="Times New Roman"/>
              </a:rPr>
              <a:t> concerning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1) 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Physics potential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of Large Deep Underground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Experiments in both non- accelerator an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ccelerator sector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2)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Underground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Laboratories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for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“Mega” detector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best strategie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for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 excavation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, access and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equipment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(ventilation, air-conditioning, power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supply, etc.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3)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Safety optimisation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in Very Large Underground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Facilitie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C0A-6173-4A10-B2B8-CD71C3F82BB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838080"/>
            <a:ext cx="7772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B) Joint research activities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1) Development, in close connection with industry (Photonis),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of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cheap photo-detector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optimized for covering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large area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suitable to detect Cerenkov light (visible + UV) with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high efficiency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)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vacuum photo-tube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”standard” (with dynodes) PMT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“hybrid” (with PIN or APD diodes) HPD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)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gaseous photo-tubes,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“wall paper” shaped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with CsI photo-cathode (Ultra-Violet region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with bi-alcali photo-cathode (visible region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2) Associated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multiplexed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power supply and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integrated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electron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E9C-4BCC-4773-B880-7E1DE071CB0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762120"/>
            <a:ext cx="77724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C)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Design Studies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concerning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the excavation of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3 to 5 “shafts”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of about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250000 m3 each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in the central region of the Fréjus Tunnel, the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associated equipment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and the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mechanics of the detector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modules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) precise “in situ” investigation of the rock quality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parameter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) optimisation of the shafts shape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c) optimisation (choice) of the type of local acces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d) definition of the required equipments : ventilation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air-conditioning, water purification “factory”,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electric power supply, etc.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e) definition of the best solution for the water containment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for the photo-detectors support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8C5-459E-4C2E-8B58-91F939002D9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533520"/>
            <a:ext cx="7315200" cy="81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inancial contributions asked to FP7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as considered from the MEMPHYS project point of view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100 K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Networking Activitie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350 K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Joint Research Activitie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R&amp;D for Photodetectors and electronics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        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total cost ≈ 2 M€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5 M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Design Study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f the Laborator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   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and the mechanics of the detector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                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total cost ≈ 25 M€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EF6A-0F74-4861-AB9D-468191B7B9A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162920" y="838080"/>
            <a:ext cx="1525320" cy="2825640"/>
            <a:chOff x="7162920" y="838080"/>
            <a:chExt cx="1525320" cy="2825640"/>
          </a:xfrm>
        </p:grpSpPr>
        <p:sp>
          <p:nvSpPr>
            <p:cNvPr id="44" name=""/>
            <p:cNvSpPr/>
            <p:nvPr/>
          </p:nvSpPr>
          <p:spPr>
            <a:xfrm>
              <a:off x="7162920" y="838080"/>
              <a:ext cx="152532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3720" y="150624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553080" y="990720"/>
            <a:ext cx="1525680" cy="2825640"/>
            <a:chOff x="6553080" y="990720"/>
            <a:chExt cx="1525680" cy="2825640"/>
          </a:xfrm>
        </p:grpSpPr>
        <p:sp>
          <p:nvSpPr>
            <p:cNvPr id="47" name=""/>
            <p:cNvSpPr/>
            <p:nvPr/>
          </p:nvSpPr>
          <p:spPr>
            <a:xfrm>
              <a:off x="6553080" y="9907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564240" y="165888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The </a:t>
            </a:r>
            <a:r>
              <a:rPr b="0" lang="en-GB" sz="3200" spc="-1" strike="noStrike">
                <a:solidFill>
                  <a:srgbClr val="e31d18"/>
                </a:solidFill>
                <a:latin typeface="Comic Sans MS"/>
              </a:rPr>
              <a:t>MEMPHYS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Project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2492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943600" y="1143000"/>
            <a:ext cx="1555920" cy="2825640"/>
            <a:chOff x="5943600" y="1143000"/>
            <a:chExt cx="1555920" cy="2825640"/>
          </a:xfrm>
        </p:grpSpPr>
        <p:sp>
          <p:nvSpPr>
            <p:cNvPr id="52" name=""/>
            <p:cNvSpPr/>
            <p:nvPr/>
          </p:nvSpPr>
          <p:spPr>
            <a:xfrm>
              <a:off x="5962680" y="11430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73840" y="18115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42240" y="18050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43600" y="17938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029200" y="1219320"/>
            <a:ext cx="1555920" cy="2825640"/>
            <a:chOff x="5029200" y="1219320"/>
            <a:chExt cx="1555920" cy="2825640"/>
          </a:xfrm>
        </p:grpSpPr>
        <p:sp>
          <p:nvSpPr>
            <p:cNvPr id="57" name=""/>
            <p:cNvSpPr/>
            <p:nvPr/>
          </p:nvSpPr>
          <p:spPr>
            <a:xfrm>
              <a:off x="5048280" y="1219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59440" y="1887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27840" y="1881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29200" y="1870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724200" y="1371600"/>
            <a:ext cx="2241720" cy="2825640"/>
            <a:chOff x="3724200" y="1371600"/>
            <a:chExt cx="2241720" cy="2825640"/>
          </a:xfrm>
        </p:grpSpPr>
        <p:sp>
          <p:nvSpPr>
            <p:cNvPr id="62" name=""/>
            <p:cNvSpPr/>
            <p:nvPr/>
          </p:nvSpPr>
          <p:spPr>
            <a:xfrm>
              <a:off x="4145040" y="20397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724200" y="1371600"/>
              <a:ext cx="2241720" cy="2792520"/>
              <a:chOff x="3724200" y="1371600"/>
              <a:chExt cx="2241720" cy="2792520"/>
            </a:xfrm>
          </p:grpSpPr>
          <p:sp>
            <p:nvSpPr>
              <p:cNvPr id="64" name=""/>
              <p:cNvSpPr/>
              <p:nvPr/>
            </p:nvSpPr>
            <p:spPr>
              <a:xfrm>
                <a:off x="4133880" y="13716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213080" y="20336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4265640" y="22618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33720" y="160992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flipV="1">
                <a:off x="4238280" y="24289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24200" y="294660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14800" y="20224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301680" y="990720"/>
            <a:ext cx="4465440" cy="4792680"/>
            <a:chOff x="301680" y="990720"/>
            <a:chExt cx="4465440" cy="47926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rcRect l="26492" t="13348" r="32464" b="3039"/>
            <a:stretch/>
          </p:blipFill>
          <p:spPr>
            <a:xfrm>
              <a:off x="866520" y="990720"/>
              <a:ext cx="3143160" cy="432612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73" name=""/>
            <p:cNvSpPr/>
            <p:nvPr/>
          </p:nvSpPr>
          <p:spPr>
            <a:xfrm>
              <a:off x="301680" y="4581720"/>
              <a:ext cx="227124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Fréjus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09720" y="482292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86200" y="1825920"/>
              <a:ext cx="218160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54040" y="203868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03080" y="227196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42120" y="3203640"/>
              <a:ext cx="269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080" y="5265720"/>
              <a:ext cx="183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33200" y="5253120"/>
              <a:ext cx="28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31d18"/>
                  </a:solidFill>
                  <a:latin typeface="Comic Sans MS"/>
                </a:rPr>
                <a:t>4800mwe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66680" y="56386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xcavation engineering pre-study has been done for 5 shaft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4114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</a:rPr>
              <a:t>Water Cerenkov modules at Fréju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038120" y="5028840"/>
            <a:ext cx="6858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038120" y="5029200"/>
            <a:ext cx="7621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038480" y="4876560"/>
            <a:ext cx="32004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4724280"/>
            <a:ext cx="434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CERN to Fréju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Neutrino Super-beam and Beta-beam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577-1283-4FA2-B435-FF5B394D2D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c2bdf"/>
                </a:solidFill>
                <a:latin typeface="Comic Sans MS"/>
              </a:rPr>
              <a:t>Physics Motivations</a:t>
            </a:r>
            <a:endParaRPr b="0" lang="en-US" sz="36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ucle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Novae Neutrino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burst &amp; relic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olar &amp; Atmospheric Neutrino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eutrinos from Accelerator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Super Beam, Beta Beam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nd also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e4b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Dark Matter (WIMP) indirect detection, High energy neutrinos,…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FB3-FD12-4818-B217-81147230BB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c2bdf"/>
                </a:solidFill>
                <a:latin typeface="Comic Sans MS"/>
              </a:rPr>
              <a:t>A Very Large Laboratory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1040" y="1386000"/>
            <a:ext cx="843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In the middle of th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Fréjus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tunnel at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depth 4800 m.w.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where the quality of the rock is the best !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preliminary investigation shows the feasibility of excavating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up to five shafts of about 250,000 m</a:t>
            </a:r>
            <a:r>
              <a:rPr b="0" lang="en-GB" sz="2400" spc="-1" strike="noStrike" baseline="30000">
                <a:solidFill>
                  <a:srgbClr val="e31d1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 each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343400" y="3429000"/>
            <a:ext cx="4495680" cy="311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33520" y="3657600"/>
            <a:ext cx="3124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Estimated </a:t>
            </a:r>
            <a:r>
              <a:rPr b="0" lang="en-GB" sz="2000" spc="-1" strike="noStrike">
                <a:solidFill>
                  <a:srgbClr val="e31d18"/>
                </a:solidFill>
                <a:latin typeface="Comic Sans MS"/>
              </a:rPr>
              <a:t>cost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≈ </a:t>
            </a:r>
            <a:r>
              <a:rPr b="0" lang="en-GB" sz="2000" spc="-1" strike="noStrike">
                <a:solidFill>
                  <a:srgbClr val="e31d18"/>
                </a:solidFill>
                <a:latin typeface="Comic Sans MS"/>
              </a:rPr>
              <a:t>80 M€ x Nb of shaft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249-A246-48F7-BED5-25C879912F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A MegaTon scale Detector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3 to 4 Water Cerenkov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modules ( = 20 x Super K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≈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500kT fiducial mas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) equipped with a large number of Photodetectors (eg. 250,000 PMTs 12”)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very well proved and robust techniqu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which provided already remarkable physical results mainly in Nucleon Decay and Neutrino Physics and Astrophysic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A22-CEE3-424E-8BCE-B2F2BAD99C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54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Very intense 300</a:t>
            </a:r>
            <a:r>
              <a:rPr b="0" lang="en-US" sz="3200" spc="-1" strike="noStrike">
                <a:solidFill>
                  <a:srgbClr val="2c2bdf"/>
                </a:solidFill>
                <a:latin typeface="Comic Sans MS"/>
              </a:rPr>
              <a:t>÷400 MeV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Neutrino Beams from CERN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based on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MW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roton Driver (eg. SPL) 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pi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Beta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possibly in connection with the EURISOL project)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heavy ions deca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D2D-B8CA-4E37-AF95-CF084ED1F4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59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2bdf"/>
                </a:solidFill>
                <a:latin typeface="Comic Sans MS"/>
              </a:rPr>
              <a:t>Main Physics potential</a:t>
            </a:r>
            <a:br>
              <a:rPr sz="3200"/>
            </a:b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A)</a:t>
            </a:r>
            <a:r>
              <a:rPr b="1" lang="en-GB" sz="2400" spc="-1" strike="noStrike">
                <a:solidFill>
                  <a:srgbClr val="e3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non accelerator physics</a:t>
            </a:r>
            <a:br>
              <a:rPr sz="2800"/>
            </a:br>
            <a:endParaRPr b="0" lang="en-US" sz="2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Nucleon decay</a:t>
            </a:r>
            <a:r>
              <a:rPr b="0" lang="en-GB" sz="2400" spc="-1" strike="noStrike" baseline="30000">
                <a:solidFill>
                  <a:srgbClr val="3e4b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    up to </a:t>
            </a:r>
            <a:r>
              <a:rPr b="0" lang="ja-JP" sz="2000" spc="-1" strike="noStrike">
                <a:solidFill>
                  <a:srgbClr val="e31d18"/>
                </a:solidFill>
                <a:latin typeface="Arial"/>
              </a:rPr>
              <a:t>～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e31d18"/>
                </a:solidFill>
                <a:latin typeface="Arial"/>
              </a:rPr>
              <a:t>35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yrs (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p→e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e31d18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   few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e31d18"/>
                </a:solidFill>
                <a:latin typeface="Arial"/>
              </a:rPr>
              <a:t>34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yrs (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p→</a:t>
            </a:r>
            <a:r>
              <a:rPr b="1" lang="en-GB" sz="2000" spc="-1" strike="noStrike">
                <a:solidFill>
                  <a:srgbClr val="e31d18"/>
                </a:solidFill>
                <a:latin typeface="Symbol"/>
                <a:ea typeface="Symbol"/>
              </a:rPr>
              <a:t>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K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) </a:t>
            </a: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with a detection threshold below 6MeV 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499"/>
              </a:spcBef>
              <a:buClr>
                <a:srgbClr val="e31d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Neutrino burs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from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Super-Novae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xplosion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150,000 events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from SN at 10kpc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50 events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from Andromeda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499"/>
              </a:spcBef>
              <a:buClr>
                <a:srgbClr val="e31d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Relic Neutrino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from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past Super-Novae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xplosi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250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events/10y/0.5Mt   (with </a:t>
            </a: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pur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water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2500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events/10y/0.5Mt (with </a:t>
            </a: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Gd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loaded water)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9B5-5400-42C5-8861-EB666B0207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867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2bdf"/>
                </a:solidFill>
                <a:latin typeface="Comic Sans MS"/>
              </a:rPr>
              <a:t>Main Physics potential </a:t>
            </a:r>
            <a:r>
              <a:rPr b="0" lang="en-GB" sz="2000" spc="-1" strike="noStrike">
                <a:solidFill>
                  <a:srgbClr val="2c2bdf"/>
                </a:solidFill>
                <a:latin typeface="Comic Sans MS"/>
              </a:rPr>
              <a:t>(continued)</a:t>
            </a:r>
            <a:br>
              <a:rPr sz="4800"/>
            </a:b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B)</a:t>
            </a:r>
            <a:r>
              <a:rPr b="1" lang="en-GB" sz="2400" spc="-1" strike="noStrike">
                <a:solidFill>
                  <a:srgbClr val="e3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accelerator physics</a:t>
            </a:r>
            <a:endParaRPr b="0" lang="en-US" sz="2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PMNS matrix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arameters measurement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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13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&lt; 0.7°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@90%CL (</a:t>
            </a:r>
            <a:r>
              <a:rPr b="0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beam 2.5Mt.y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-&gt;  for 40°&lt;|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CP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|&lt;140°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: 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CP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violation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discovery @ &gt; 3</a:t>
            </a:r>
            <a:r>
              <a:rPr b="0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( at </a:t>
            </a:r>
            <a:r>
              <a:rPr b="0" lang="en-GB" sz="2000" spc="-1" strike="noStrike">
                <a:solidFill>
                  <a:srgbClr val="3e4bff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3e4bff"/>
                </a:solidFill>
                <a:latin typeface="Arial"/>
              </a:rPr>
              <a:t>1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= 1° and 10yrs of Beta Beam and Super Beam 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22C-8284-453F-8934-BE875A7D80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4200" y="3571920"/>
            <a:ext cx="0" cy="865080"/>
          </a:xfrm>
          <a:prstGeom prst="line">
            <a:avLst/>
          </a:prstGeom>
          <a:ln w="9360">
            <a:solidFill>
              <a:srgbClr val="5c1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98560" y="234792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SUPERBEAM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BETABEA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→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→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→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→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762120"/>
            <a:ext cx="7740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Superbeam + beta beam together</a:t>
            </a:r>
            <a:endParaRPr b="0" lang="en-US" sz="3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3120" y="4437000"/>
            <a:ext cx="28908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4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1840" y="4437000"/>
            <a:ext cx="21564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8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8200" y="3645000"/>
            <a:ext cx="502920" cy="576000"/>
          </a:xfrm>
          <a:prstGeom prst="upDownArrow">
            <a:avLst>
              <a:gd name="adj1" fmla="val 50000"/>
              <a:gd name="adj2" fmla="val 22800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86560" y="3645000"/>
            <a:ext cx="557280" cy="576000"/>
          </a:xfrm>
          <a:prstGeom prst="upDownArrow">
            <a:avLst>
              <a:gd name="adj1" fmla="val 50000"/>
              <a:gd name="adj2" fmla="val 20576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2200" y="457992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2200" y="3139920"/>
            <a:ext cx="1944720" cy="287640"/>
          </a:xfrm>
          <a:prstGeom prst="leftRightArrow">
            <a:avLst>
              <a:gd name="adj1" fmla="val 50000"/>
              <a:gd name="adj2" fmla="val 134593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4057800">
            <a:off x="4377600" y="2527200"/>
            <a:ext cx="211320" cy="3024360"/>
          </a:xfrm>
          <a:prstGeom prst="upDownArrow">
            <a:avLst>
              <a:gd name="adj1" fmla="val 50000"/>
              <a:gd name="adj2" fmla="val 284910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516800">
            <a:off x="2970360" y="400032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6200" y="5156280"/>
            <a:ext cx="6264360" cy="703800"/>
          </a:xfrm>
          <a:prstGeom prst="rect">
            <a:avLst/>
          </a:prstGeom>
          <a:noFill/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1989000"/>
            <a:ext cx="1873440" cy="10159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Arial"/>
              </a:rPr>
              <a:t>2 beams</a:t>
            </a:r>
            <a:r>
              <a:rPr b="1" lang="en-GB" sz="1800" spc="-1" strike="noStrike">
                <a:solidFill>
                  <a:srgbClr val="3e4b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Arial"/>
              </a:rPr>
              <a:t>1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60640" y="299412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2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32280" y="428940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8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84720" y="299556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84720" y="428940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35040" y="2717640"/>
            <a:ext cx="196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pure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2600" y="2717640"/>
            <a:ext cx="32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flavours + K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14560" y="3730680"/>
            <a:ext cx="198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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038-DA67-4393-A690-F3C98B3A7B8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22:17:48Z</dcterms:created>
  <dc:creator>Luigi Mosca</dc:creator>
  <dc:description/>
  <dc:language>en-US</dc:language>
  <cp:lastModifiedBy>J.E Campagne</cp:lastModifiedBy>
  <dcterms:modified xsi:type="dcterms:W3CDTF">2005-11-14T08:44:06Z</dcterms:modified>
  <cp:revision>32</cp:revision>
  <dc:subject/>
  <dc:title>Présentation PowerPoint</dc:title>
</cp:coreProperties>
</file>